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685-E7BC-4F90-AE6F-039E7068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36D-D066-4FBC-997C-C1E2B96B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11F-7025-468D-8523-7B233DE4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853-3E3A-4E2B-B0C7-74F532A3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C92D-AB27-41E0-A475-8821F613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41A3-6937-4CE0-ABE7-09AAC63C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30DB-E604-4CC2-B710-4326B47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D2B-DF26-4DFE-9C70-16517FC1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4874-0220-44E9-8526-BFD67F4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DD4-6902-4F40-93ED-F916C842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172E-68EC-4995-ADD7-823B95E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19D-1E92-488E-A614-C4416385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21B0-75C2-4750-94BE-B32B40BF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0A9C-2E95-4EAC-A6FB-E865F744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A7BF-AAAD-442C-AA62-15FE5473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E651-41DF-4568-ABA5-1CD5EFC1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2F03-F496-4BF0-A409-D8C0518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975-F0B6-423B-830D-5C6D18E6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CA9-22E5-4AED-AD6D-B5B42C6D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347-08A5-40DD-B842-74E99A0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164-184C-4546-BBB5-62145F0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28C-9A89-4FA1-914F-780A34D4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EF3-9AFE-43AA-B838-66AE9615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99E-AABD-47A0-A1E5-F846D93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5E06-AA0E-4B20-9BC9-3403FC30787D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188F-1F7F-4858-9D26-93044D35A6D3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sccb.org/nab/bible/acts/acts1.htm#v8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Go Tell The Good New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11, Lesson 1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view and Introduc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1-8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3689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05520" y="1676520"/>
            <a:ext cx="2952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ter Preach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 Jerusalem o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ntecost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90560"/>
            <a:ext cx="4343400" cy="30200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postles will be His witnes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in Jerusal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 throughout Ju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and Samar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·  and to the ends of the earth (see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Acts 1: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828960" cy="306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228600"/>
          <a:ext cx="7315200" cy="6635880"/>
        </p:xfrm>
        <a:graphic>
          <a:graphicData uri="http://schemas.openxmlformats.org/drawingml/2006/table">
            <a:tbl>
              <a:tblPr/>
              <a:tblGrid>
                <a:gridCol w="492120"/>
                <a:gridCol w="1254240"/>
                <a:gridCol w="556884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Great Commi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th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, teach all n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ptiz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name of Father, Son, Holy Gh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with you alway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whole world, preach to everyo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and baptis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ll be save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s will follow those who belie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ach among all n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ntance and remission of si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his nam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it for power from on high (the Spirit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7086600" y="914400"/>
            <a:ext cx="17524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mbin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ach/teach gosp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the belie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n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is Bapt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ll be saved/ remission of s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ch to observe all things comma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Great Commission Carried Out In Acts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074600"/>
            <a:ext cx="8610480" cy="578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Bible History Review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cattering of the Peopl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odus from Egyp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quest of the La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tivity of Juda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urn from Captiv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arly Church*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etters to Christians*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486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362320" y="533520"/>
            <a:ext cx="4133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 Tell The Good New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is Quarter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udy How The Good News Was Spre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The Great Commission was carried out (As seen in the book of ACTS)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m the ASCENSION of Jesus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 Paul the prisoner in 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sic Divisions of AC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s 1-12 : Pete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s 13-28: Pau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66680" y="1066680"/>
          <a:ext cx="6858000" cy="5321520"/>
        </p:xfrm>
        <a:graphic>
          <a:graphicData uri="http://schemas.openxmlformats.org/drawingml/2006/table">
            <a:tbl>
              <a:tblPr/>
              <a:tblGrid>
                <a:gridCol w="1447920"/>
                <a:gridCol w="874800"/>
                <a:gridCol w="2782800"/>
                <a:gridCol w="1752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Jews (Acts 2)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Samaritans (Acts 8:14-2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 opens the door of faith to the Gentiles (Acts 10:25-4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TS 1-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ETER</a:t>
                      </a:r>
                      <a:br>
                        <a:rPr sz="1000"/>
                      </a:b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Matthew 16:19--"keys"are for opening doo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8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first missionary journe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(Acts 13-14)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second missionary journey (Acts 15:36-18:2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Paul's third missionary journey (Acts 18:23-21:14</a:t>
                      </a: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CTS 13-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192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0920" y="4343400"/>
            <a:ext cx="618840" cy="133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971800" y="380880"/>
            <a:ext cx="3114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cts in Summary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Span of the Book of Act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next 30 Years after Chr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D 29/30 – AD 63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esus’ Ascension to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ul’s First Roman Imprisonme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Author of Acts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uke: Physician/Historia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ote Gospel of Luke – 58-60A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rote book of Acts – 60/61-64A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is Study Will Show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King is Chri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Kingdom is His Church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s Citizens Are Those Who Obey the Gosp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371600" y="22860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ood New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Start 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rusale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6T17:20:38Z</dcterms:created>
  <dc:creator> Tab Vines</dc:creator>
  <dc:description/>
  <dc:language>en-US</dc:language>
  <cp:lastModifiedBy>Frank D Vines</cp:lastModifiedBy>
  <dcterms:modified xsi:type="dcterms:W3CDTF">2007-04-01T20:38:34Z</dcterms:modified>
  <cp:revision>3</cp:revision>
  <dc:subject/>
  <dc:title>Go Tell The Good News</dc:title>
</cp:coreProperties>
</file>